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B98-4C1E-46D6-958B-C4F5AC91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B02-CA6D-42A4-A6E4-907B262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F7A-11F9-4AEA-AFE4-EFA0BF38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7CA-802A-4E1C-8BDF-C38A25BB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5961-0D65-47A2-8F18-02C53A6F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2D4-11B2-4B11-9CB9-69DEB53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22FE-4620-4C81-BA81-4B45B56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00E8-860C-4604-A263-0FEB944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897-C1F6-411C-B344-9D32DA4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C6AF-1E00-4FF5-ACEE-AC19222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0237-B088-4FB8-90E5-4781D06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C15-5816-4AC9-A0A8-973DBA0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F74F-2CBE-4FC0-9892-E144732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CF8-C559-4E21-83E7-B174ADA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9F7-7E15-425D-A80C-6B9A54C2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017F-D909-4406-B9F9-C95196A6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E7FE-DEDB-47A1-B14B-73AA9695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04F7-E74B-4BA4-9B26-D0D971A9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0A2B-E20C-4BF7-BE0B-8856A12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CBC0-647D-47E7-A9E9-BC6844E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8FA8-CE98-434C-AC40-2348EDB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D925-81AA-4477-B61D-79B18E96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FAE-FC6B-4389-887C-BEC8DE88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7E04-C5FE-4441-AE4E-A68BD02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8272-2FB8-4B7E-9D40-E2BD8A2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E269-F0B8-4E0F-9F60-CE5370B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FF99-CA85-4AD8-92B1-FFCD40D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98D8-EC88-47EE-8331-8D394959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1017-A6D0-4BD8-85A5-66584818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F0D9-2B42-4DFC-8A66-64A55040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33A-6E5D-4043-AFD7-EDB3F13F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E7C-C7FB-4FEF-91F0-535EDFDB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64A-A95A-453A-8DF9-B301538C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573-7576-45E4-ABA7-8E28DA4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1E4-6934-4406-996D-E92858A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EDB-3015-4CFA-BA9C-5F0250F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C1F2-12D9-4536-8521-18FBDA0FB62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844D-D2D2-4BA7-94A0-DB35B581D6E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A20-1EEF-42AB-9676-EA81C9C0503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475160"/>
            <a:ext cx="922032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Unit 2 They're near the wind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宋体"/>
              </a:rPr>
              <a:t>clos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our ey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闭上你的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6387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40068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ope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打开 ，睁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open the doo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打开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7411" descr=""/>
          <p:cNvPicPr/>
          <p:nvPr/>
        </p:nvPicPr>
        <p:blipFill>
          <a:blip r:embed="rId1"/>
          <a:stretch/>
        </p:blipFill>
        <p:spPr>
          <a:xfrm>
            <a:off x="4498920" y="2133720"/>
            <a:ext cx="3960720" cy="35636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741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8435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6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open your ey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睁开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19459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4276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20483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now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21507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01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  <a:ea typeface="宋体"/>
              </a:rPr>
              <a:t>Now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宋体"/>
              </a:rPr>
              <a:t>ope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y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现在睁开你的眼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  <a:ea typeface="宋体"/>
              </a:rPr>
              <a:t>Now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宋体"/>
              </a:rPr>
              <a:t>close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y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现在闭上你的眼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cc00"/>
                </a:solidFill>
                <a:latin typeface="Arial"/>
                <a:ea typeface="宋体"/>
              </a:rPr>
              <a:t>right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对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23555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857680" cy="23814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3556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Arial"/>
                <a:ea typeface="宋体"/>
              </a:rPr>
              <a:t>wrong </a:t>
            </a:r>
            <a:r>
              <a:rPr b="0" lang="zh-CN" sz="5400" spc="-1" strike="noStrike">
                <a:solidFill>
                  <a:srgbClr val="ff5050"/>
                </a:solidFill>
                <a:latin typeface="Arial"/>
                <a:ea typeface="宋体"/>
              </a:rPr>
              <a:t>错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24579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2857680" cy="23810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4580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686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2560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单词突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Microsoft JhengHei"/>
                <a:ea typeface="宋体"/>
              </a:rPr>
              <a:t>for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宋体"/>
              </a:rPr>
              <a:t>长达（……时间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8195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438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ou are 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  <a:ea typeface="宋体"/>
              </a:rPr>
              <a:t>righ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是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26627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338472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of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沙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29699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4235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4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宋体"/>
              </a:rPr>
              <a:t>minute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9219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979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宋体"/>
              </a:rPr>
              <a:t>for one minu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0243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54734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Arial"/>
                <a:ea typeface="宋体"/>
              </a:rPr>
              <a:t>loo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11267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609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1229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宋体"/>
              </a:rPr>
              <a:t>Look 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my bedroom 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  <a:ea typeface="宋体"/>
              </a:rPr>
              <a:t>fo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one min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我的卧室一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一分钟我的卧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宋体"/>
              </a:rPr>
              <a:t>clos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合上，闭上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ose the doo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关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4339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3375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536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219560" cy="42195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5364" descr=""/>
          <p:cNvPicPr/>
          <p:nvPr/>
        </p:nvPicPr>
        <p:blipFill>
          <a:blip r:embed="rId2"/>
          <a:stretch/>
        </p:blipFill>
        <p:spPr>
          <a:xfrm>
            <a:off x="5143680" y="1676520"/>
            <a:ext cx="37051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06:50:57Z</dcterms:created>
  <dc:creator/>
  <dc:description/>
  <cp:keywords>http:/cai.7cxk.net 中小学课件网</cp:keywords>
  <dc:language>en-US</dc:language>
  <cp:lastModifiedBy>Administrator</cp:lastModifiedBy>
  <dcterms:modified xsi:type="dcterms:W3CDTF">2017-10-07T03:27:5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